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4E1E-058E-4891-A204-5C608C99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B0C0-5633-4D3E-B94D-B4B075C6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3762-7DA4-438D-B219-9B35B4EA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9AE-CACC-421D-8F8D-CDCA44FA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EA8-578F-4284-92AE-144D3F42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CF8-8F95-4AB7-8388-4193A9BDA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D37-9FF1-4A35-802B-5D92463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71F-10BC-432D-B158-46715088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6E1-7A57-4CAE-82BC-898A0C50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CAE-F493-4789-A297-3F6C6037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4B5-7C02-4171-8E79-6E67AF5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507-8B0F-4369-84B2-3ABBD8B7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996C-3D6C-47E5-86D0-6B68EEA5D6FE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Edwardian Script ITC"/>
              </a:rPr>
              <a:t>Luna- </a:t>
            </a:r>
            <a:br>
              <a:rPr sz="7200"/>
            </a:br>
            <a:r>
              <a:rPr b="1" lang="ro-RO" sz="4800" spc="-1" strike="noStrike">
                <a:solidFill>
                  <a:srgbClr val="000000"/>
                </a:solidFill>
                <a:latin typeface="Edwardian Script ITC"/>
              </a:rPr>
              <a:t>motiv poe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Soos Crist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Cls. a XI-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Prof. Chis Dan Li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Script MT Bold"/>
              </a:rPr>
              <a:t>Semnificaţia  lunii   în   poe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557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844640"/>
            <a:ext cx="7812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strul nocturn este „un instrument de măsură universal” al timpului, ritmând viaţa şi moartea deopotrivă, de aceea, nu este deloc neobisnuit că luna a fost, simultan, privită ca simbol al fertilitătii şi ca simbol al morţ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una este un simbol plurivalent, care apare cuprecădere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oezia romantică. Astfel, ea intră în scenariul  noc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l  poemului romantic nu numai ca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bligatoriu, ci şi ca topos literar de mare prestig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indicând  prezenţa imaginarului po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Script MT Bold"/>
              </a:rPr>
              <a:t>Poezii în care este valorificat motivul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vânăm lumina lunii” -Nichita Stă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ătre lună” -Ştefan Octavian Ios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ara pe deal” - Mihai Emi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una” şi “Noaptea” -Alexandru Vlah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anţa” –George Baco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onata lunii” Lucian Bl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197000"/>
            <a:ext cx="4316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1125360"/>
            <a:ext cx="790560" cy="79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7451640" y="1197000"/>
            <a:ext cx="43200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5:34Z</dcterms:created>
  <dc:creator>CHANGE_ME1</dc:creator>
  <dc:description/>
  <dc:language>en-US</dc:language>
  <cp:lastModifiedBy>CHANGE_ME1</cp:lastModifiedBy>
  <dcterms:modified xsi:type="dcterms:W3CDTF">2011-11-06T12:26:04Z</dcterms:modified>
  <cp:revision>3</cp:revision>
  <dc:subject/>
  <dc:title>Luna,  motiv poet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